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14. Mar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88364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623880"/>
                <a:tab algn="r" pos="6183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Wolf 5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UM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1.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Project 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5760" y="1103400"/>
            <a:ext cx="8776440" cy="5699160"/>
            <a:chOff x="185760" y="1103400"/>
            <a:chExt cx="8776440" cy="5699160"/>
          </a:xfrm>
        </p:grpSpPr>
        <p:grpSp>
          <p:nvGrpSpPr>
            <p:cNvPr id="89" name=""/>
            <p:cNvGrpSpPr/>
            <p:nvPr/>
          </p:nvGrpSpPr>
          <p:grpSpPr>
            <a:xfrm>
              <a:off x="185760" y="1103400"/>
              <a:ext cx="8776440" cy="5188680"/>
              <a:chOff x="185760" y="1103400"/>
              <a:chExt cx="8776440" cy="5188680"/>
            </a:xfrm>
          </p:grpSpPr>
          <p:sp>
            <p:nvSpPr>
              <p:cNvPr id="90" name=""/>
              <p:cNvSpPr/>
              <p:nvPr/>
            </p:nvSpPr>
            <p:spPr>
              <a:xfrm>
                <a:off x="185760" y="1103400"/>
                <a:ext cx="8776440" cy="5188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50920" y="1103400"/>
                <a:ext cx="8685000" cy="51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36880" y="1151280"/>
              <a:ext cx="8705880" cy="56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72000" anchor="t">
              <a:spAutoFit/>
            </a:bodyPr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Product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ead project 6250, first in-house UMTS phone. Key features: Full-featured GPS navigation, Brillant 2,2 inch QVGA display, 2MPix camera, 2nd video telephony camera, RS-MultiMediaCard, Bluetooth, RDS-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Project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L-T:  Thomas Engelhardt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M:  Jörn Watzke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M:  Ralf Plitzner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A: Sebastian Kurit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Milestone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2.07.04 </a:t>
              </a:r>
              <a:r>
                <a:rPr b="0" lang="en-GB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15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7.01.05 </a:t>
              </a:r>
              <a:r>
                <a:rPr b="0" lang="en-GB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7.07.05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3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11.11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9.08.04 </a:t>
              </a:r>
              <a:r>
                <a:rPr b="0" lang="en-GB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08.03.05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(22.3.05)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S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3.09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2.10.04 </a:t>
              </a:r>
              <a:r>
                <a:rPr b="0" lang="en-GB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25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7.05.05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7.1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Prototype builds over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3.07.04 </a:t>
              </a:r>
              <a:r>
                <a:rPr b="0" lang="en-GB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1+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7.11.04 </a:t>
              </a:r>
              <a:r>
                <a:rPr b="0" lang="en-GB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1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0.01.05 </a:t>
              </a:r>
              <a:r>
                <a:rPr b="0" lang="en-GB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1+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23.03.05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2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31.05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otal project development costs: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9‘ €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velopment costs FY 04/05: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9‘ 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M target:  129€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M actual:   134,57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Time to market sum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riginal DS is still feasible. Intensive risk mitigation activities are required on 2 main areas of concer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 SW development on QCT side: QCT late in feature implementation, de-featurization like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 HW optimization on RMR side: Slow progress, support by MD necessary, intermediate layout cycles may be need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700280"/>
                  <a:tab algn="l" pos="2152800"/>
                  <a:tab algn="l" pos="2244600"/>
                  <a:tab algn="l" pos="2684520"/>
                  <a:tab algn="l" pos="3500280"/>
                  <a:tab algn="l" pos="3851280"/>
                  <a:tab algn="l" pos="4395960"/>
                  <a:tab algn="l" pos="4664160"/>
                  <a:tab algn="l" pos="4840200"/>
                  <a:tab algn="l" pos="5024520"/>
                  <a:tab algn="l" pos="5467320"/>
                  <a:tab algn="l" pos="6013440"/>
                  <a:tab algn="l" pos="6640560"/>
                  <a:tab algn="l" pos="6724800"/>
                  <a:tab algn="l" pos="7085160"/>
                  <a:tab algn="l" pos="71769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623880"/>
                <a:tab algn="r" pos="6183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Wolf 5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UM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2.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Major Progress and Achiev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85760" y="1103400"/>
            <a:ext cx="8776440" cy="5188320"/>
            <a:chOff x="185760" y="1103400"/>
            <a:chExt cx="8776440" cy="5188320"/>
          </a:xfrm>
        </p:grpSpPr>
        <p:grpSp>
          <p:nvGrpSpPr>
            <p:cNvPr id="95" name=""/>
            <p:cNvGrpSpPr/>
            <p:nvPr/>
          </p:nvGrpSpPr>
          <p:grpSpPr>
            <a:xfrm>
              <a:off x="185760" y="1103400"/>
              <a:ext cx="8776440" cy="5188320"/>
              <a:chOff x="185760" y="1103400"/>
              <a:chExt cx="8776440" cy="5188320"/>
            </a:xfrm>
          </p:grpSpPr>
          <p:sp>
            <p:nvSpPr>
              <p:cNvPr id="96" name=""/>
              <p:cNvSpPr/>
              <p:nvPr/>
            </p:nvSpPr>
            <p:spPr>
              <a:xfrm>
                <a:off x="185760" y="1103400"/>
                <a:ext cx="8776440" cy="5188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50920" y="1103400"/>
                <a:ext cx="8685000" cy="518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236880" y="1151280"/>
              <a:ext cx="8705880" cy="40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72000" anchor="t">
              <a:spAutoFit/>
            </a:bodyPr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HW-Development (BB, RF, EMC/Anten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upport by PD (MCH and KLF) substancially improved the development status of RMR and our confidence level (RF, EA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SW-Development (Platform, Drivers, Tools, U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ebit software build available in ti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nables stable video telephony, streaming, video playback and navigation demonst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Mechanic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irst (B1) plastics available, mechanics on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1+ phones will be manufactured in time, i.e. by 21.03.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623880"/>
                <a:tab algn="r" pos="6183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Wolf 5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UM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3.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Risks, Problems and Corrective 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85760" y="1103400"/>
            <a:ext cx="8776440" cy="5391000"/>
            <a:chOff x="185760" y="1103400"/>
            <a:chExt cx="8776440" cy="5391000"/>
          </a:xfrm>
        </p:grpSpPr>
        <p:grpSp>
          <p:nvGrpSpPr>
            <p:cNvPr id="101" name=""/>
            <p:cNvGrpSpPr/>
            <p:nvPr/>
          </p:nvGrpSpPr>
          <p:grpSpPr>
            <a:xfrm>
              <a:off x="185760" y="1103400"/>
              <a:ext cx="8776440" cy="5391000"/>
              <a:chOff x="185760" y="1103400"/>
              <a:chExt cx="8776440" cy="5391000"/>
            </a:xfrm>
          </p:grpSpPr>
          <p:sp>
            <p:nvSpPr>
              <p:cNvPr id="102" name=""/>
              <p:cNvSpPr/>
              <p:nvPr/>
            </p:nvSpPr>
            <p:spPr>
              <a:xfrm>
                <a:off x="185760" y="1103400"/>
                <a:ext cx="8776440" cy="539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0920" y="1103400"/>
                <a:ext cx="8685000" cy="539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236880" y="1153080"/>
              <a:ext cx="8705880" cy="53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72000" anchor="t">
              <a:spAutoFit/>
            </a:bodyPr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1434960"/>
                  <a:tab algn="l" pos="170352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1434960"/>
                  <a:tab algn="l" pos="170352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SW-Development (Platform, Drivers, Tools, U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1434960"/>
                  <a:tab algn="l" pos="170352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isk: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CT: SW implementation behind schedule. QCT unable to accelerate fur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1434960"/>
                  <a:tab algn="l" pos="170352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verity: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igh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ossible impact: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DS delay or de-featuris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1434960"/>
                  <a:tab algn="l" pos="170352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434960"/>
                  <a:tab algn="l" pos="170352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ctions taken: 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)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egular review of SW implementation status on-site at QCT San Die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434960"/>
                  <a:tab algn="l" pos="170352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)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egular meetings to identify acceptable de-featurisation potentials (CR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434960"/>
                  <a:tab algn="l" pos="170352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)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mplementation of integration mgr. temporarily in SD for daily status contro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434960"/>
                  <a:tab algn="l" pos="170352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)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teering commitee: Negotiations on „must have“ features, in turn commitment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rom QCT on „implementation complete milestone“ by 30.04. to keep D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434960"/>
                  <a:tab algn="l" pos="170352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434960"/>
                  <a:tab algn="l" pos="170352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1434960"/>
                  <a:tab algn="l" pos="170352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Team/Resources/Ski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1434960"/>
                  <a:tab algn="l" pos="170352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isk: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MR: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imited experience &amp; missing skills delay HW evaluation prog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1434960"/>
                  <a:tab algn="l" pos="170352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verity: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edium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ossible impact: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itional HW spins, schedule impact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434960"/>
                  <a:tab algn="l" pos="170352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ctions taken: 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)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creased PD support, also on-site: EA, RF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434960"/>
                  <a:tab algn="l" pos="170352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)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MR has sub-contracted Perlos for SA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434960"/>
                  <a:tab algn="l" pos="170352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)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MR internal team size increase (R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434960"/>
                  <a:tab algn="l" pos="170352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)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. prj.mgmt. coach put in place: Improvement in prj.mgmt. skil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434960"/>
                  <a:tab algn="l" pos="170352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5:34:47Z</dcterms:created>
  <dc:creator>Claus Ziegler</dc:creator>
  <dc:description/>
  <dc:language>en-US</dc:language>
  <cp:lastModifiedBy>Schmitz Juergen</cp:lastModifiedBy>
  <cp:lastPrinted>2004-02-29T14:41:19Z</cp:lastPrinted>
  <dcterms:modified xsi:type="dcterms:W3CDTF">2005-03-15T09:34:19Z</dcterms:modified>
  <cp:revision>21</cp:revision>
  <dc:subject/>
  <dc:title>EGL products platform</dc:title>
</cp:coreProperties>
</file>